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6.xml.rels" ContentType="application/vnd.openxmlformats-package.relationships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sldImg"/>
          </p:nvPr>
        </p:nvSpPr>
        <p:spPr>
          <a:xfrm>
            <a:off x="380880" y="685440"/>
            <a:ext cx="60962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Franklin Gothic Book"/>
              </a:rPr>
              <a:t>Click to move the slide</a:t>
            </a: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2F97F-4EAD-447F-AF5B-5DCE6391780B}" type="slidenum">
              <a:rPr b="0" lang="en-I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I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F9A9F-43C3-4FBC-B521-6632BE820702}" type="slidenum">
              <a:rPr b="0" lang="en-I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44F8D-3114-477F-9779-989D40CAC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10362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19320" y="1447920"/>
            <a:ext cx="10362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219320" y="3836160"/>
            <a:ext cx="10362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C99CE-2375-447A-B29F-6F076499A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10362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19320" y="1447920"/>
            <a:ext cx="5056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529320" y="1447920"/>
            <a:ext cx="5056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219320" y="3836160"/>
            <a:ext cx="5056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529320" y="3836160"/>
            <a:ext cx="5056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ECF2E-76A7-4180-9013-7EBB111E0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10362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19320" y="1447920"/>
            <a:ext cx="3336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22840" y="1447920"/>
            <a:ext cx="3336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226720" y="1447920"/>
            <a:ext cx="3336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219320" y="3836160"/>
            <a:ext cx="3336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4722840" y="3836160"/>
            <a:ext cx="3336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8226720" y="3836160"/>
            <a:ext cx="3336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4FE4C-CC1C-4EF3-B0EB-F4F204C63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864AF-D4F8-4FD4-BE9E-56C996BDB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10362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219320" y="1447920"/>
            <a:ext cx="10362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6DA4D-B2AC-4F93-82C6-9E5B414FF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10362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19320" y="1447920"/>
            <a:ext cx="10362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4D60B-0B0A-44A2-9499-DB2FDA400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10362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19320" y="1447920"/>
            <a:ext cx="50569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529320" y="1447920"/>
            <a:ext cx="50569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81DAC-7F96-4214-8CCF-68CABFD2B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10362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1D36C-54DC-45B3-B9F9-7FDE880FC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219320" y="274320"/>
            <a:ext cx="10362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80808-0897-43F5-A67D-26B6D969C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10362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219320" y="1447920"/>
            <a:ext cx="5056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529320" y="1447920"/>
            <a:ext cx="50569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219320" y="3836160"/>
            <a:ext cx="5056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177EE-AC6F-4A00-AD5A-6E03635EC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10362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219320" y="1447920"/>
            <a:ext cx="10362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A3E69-20A5-43C1-BCD0-FDE6A0462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10362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19320" y="1447920"/>
            <a:ext cx="50569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529320" y="1447920"/>
            <a:ext cx="5056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529320" y="3836160"/>
            <a:ext cx="5056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ADB41-2B85-4200-A90A-2CB95BAA6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10362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19320" y="1447920"/>
            <a:ext cx="5056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529320" y="1447920"/>
            <a:ext cx="5056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219320" y="3836160"/>
            <a:ext cx="10362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BCAB8-DED4-461E-AD2E-A950918FA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10362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19320" y="1447920"/>
            <a:ext cx="10362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219320" y="3836160"/>
            <a:ext cx="10362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DAA5D-594B-4C34-9D93-109743DE1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10362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19320" y="1447920"/>
            <a:ext cx="5056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529320" y="1447920"/>
            <a:ext cx="5056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219320" y="3836160"/>
            <a:ext cx="5056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529320" y="3836160"/>
            <a:ext cx="5056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B3B9B-918A-4688-B52A-930CE9BA3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10362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19320" y="1447920"/>
            <a:ext cx="3336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22840" y="1447920"/>
            <a:ext cx="3336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8226720" y="1447920"/>
            <a:ext cx="3336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219320" y="3836160"/>
            <a:ext cx="3336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4722840" y="3836160"/>
            <a:ext cx="3336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8226720" y="3836160"/>
            <a:ext cx="3336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9EBAC-4D0E-4E5F-AD13-E2F080431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FC2515-13C4-4EE2-9B65-4D8F26BF4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10362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219320" y="1447920"/>
            <a:ext cx="10362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2677F9-11DA-4EA7-B837-6296219AA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10362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1447920"/>
            <a:ext cx="10362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C391E4-B0E2-4CF3-BB6E-00E57EA9E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10362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447920"/>
            <a:ext cx="50569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529320" y="1447920"/>
            <a:ext cx="50569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2FAB8D-F39C-4452-BB53-49763FAA1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10362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5FAF0C-3D20-4AE3-8325-9D193E792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10362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19320" y="1447920"/>
            <a:ext cx="10362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ED2E5-A2C2-4963-BB5F-EDDC33025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1219320" y="274320"/>
            <a:ext cx="10362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098398-8E79-4DC1-9B7A-5775B71AC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10362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19320" y="1447920"/>
            <a:ext cx="5056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6529320" y="1447920"/>
            <a:ext cx="50569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219320" y="3836160"/>
            <a:ext cx="5056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4794AB-4F22-43FB-A50A-526BBA8A4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10362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447920"/>
            <a:ext cx="50569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6529320" y="1447920"/>
            <a:ext cx="5056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529320" y="3836160"/>
            <a:ext cx="5056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ADB00F-E9AF-4852-B82E-FC93B9200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10362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219320" y="1447920"/>
            <a:ext cx="5056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6529320" y="1447920"/>
            <a:ext cx="5056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219320" y="3836160"/>
            <a:ext cx="10362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22F41B-7B34-4904-8055-433642E4F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10362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219320" y="1447920"/>
            <a:ext cx="10362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1219320" y="3836160"/>
            <a:ext cx="10362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A70C87-A820-468A-96CD-38F637CA4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10362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447920"/>
            <a:ext cx="5056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6529320" y="1447920"/>
            <a:ext cx="5056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1219320" y="3836160"/>
            <a:ext cx="5056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529320" y="3836160"/>
            <a:ext cx="5056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31B08B-4E40-4317-935E-E56009BBD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10362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219320" y="1447920"/>
            <a:ext cx="3336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722840" y="1447920"/>
            <a:ext cx="3336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8226720" y="1447920"/>
            <a:ext cx="3336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1219320" y="3836160"/>
            <a:ext cx="3336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4722840" y="3836160"/>
            <a:ext cx="3336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8226720" y="3836160"/>
            <a:ext cx="3336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707AD1-B23B-4012-8A08-7857E8170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FE372B-967C-498F-9127-AA2C9A378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10362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1219320" y="1447920"/>
            <a:ext cx="10362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47254B-2533-439B-A031-23DBC2A51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10362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219320" y="1447920"/>
            <a:ext cx="10362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BEBA6F-AB6D-485E-8B67-CF18D8BE4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10362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447920"/>
            <a:ext cx="50569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529320" y="1447920"/>
            <a:ext cx="50569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9B56A-0B27-4FDD-825E-51CE6FD65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10362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219320" y="1447920"/>
            <a:ext cx="50569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6529320" y="1447920"/>
            <a:ext cx="50569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420083-85F9-47AD-98FD-99E1E5730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10362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CFE511-31EC-4FA9-AEF6-237D657F0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1219320" y="274320"/>
            <a:ext cx="10362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6B5DC8-A457-4ED5-B5E1-343F05D69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10362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19320" y="1447920"/>
            <a:ext cx="5056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6529320" y="1447920"/>
            <a:ext cx="50569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219320" y="3836160"/>
            <a:ext cx="5056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8C363C-3280-46B1-B70B-0160A3772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10362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219320" y="1447920"/>
            <a:ext cx="50569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6529320" y="1447920"/>
            <a:ext cx="5056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529320" y="3836160"/>
            <a:ext cx="5056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73E045-0550-4770-B1F7-1E0F6523E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10362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219320" y="1447920"/>
            <a:ext cx="5056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6529320" y="1447920"/>
            <a:ext cx="5056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1219320" y="3836160"/>
            <a:ext cx="10362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31E5B0-C629-483C-AA2A-99CAAF513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10362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219320" y="1447920"/>
            <a:ext cx="10362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1219320" y="3836160"/>
            <a:ext cx="10362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88583F-D6E0-4047-BDBB-E96CE83C9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10362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219320" y="1447920"/>
            <a:ext cx="5056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6529320" y="1447920"/>
            <a:ext cx="5056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1219320" y="3836160"/>
            <a:ext cx="5056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6529320" y="3836160"/>
            <a:ext cx="5056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C17EE7-53A1-429A-AC87-E830C6B00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10362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219320" y="1447920"/>
            <a:ext cx="3336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722840" y="1447920"/>
            <a:ext cx="3336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8226720" y="1447920"/>
            <a:ext cx="3336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1219320" y="3836160"/>
            <a:ext cx="3336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4722840" y="3836160"/>
            <a:ext cx="3336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8226720" y="3836160"/>
            <a:ext cx="3336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B00992-91F8-4CEC-8FC3-C48BA3FF8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0F9B2B-71C1-4098-A73D-2701E18F2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10362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35893-908B-4130-85C3-5CA097E66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10362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219320" y="1447920"/>
            <a:ext cx="10362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0B6387-54A4-4342-A70C-6EF968E63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10362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219320" y="1447920"/>
            <a:ext cx="10362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7BAD54-7C0C-42E9-AC7D-99281668F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10362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219320" y="1447920"/>
            <a:ext cx="50569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6529320" y="1447920"/>
            <a:ext cx="50569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C5D056-3FEA-407C-8F94-49EECA4D7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10362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984310-56CC-45FE-98E5-C7301D591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1219320" y="274320"/>
            <a:ext cx="10362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BFF812-03FA-4E97-A48D-4BAAB2F25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10362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219320" y="1447920"/>
            <a:ext cx="5056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6529320" y="1447920"/>
            <a:ext cx="50569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1219320" y="3836160"/>
            <a:ext cx="5056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5A0FEE-2373-4593-9DAB-87B2F5075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10362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219320" y="1447920"/>
            <a:ext cx="50569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529320" y="1447920"/>
            <a:ext cx="5056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529320" y="3836160"/>
            <a:ext cx="5056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1ABDED-122F-49AB-B22E-0BA7D2EE0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10362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219320" y="1447920"/>
            <a:ext cx="5056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6529320" y="1447920"/>
            <a:ext cx="5056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1219320" y="3836160"/>
            <a:ext cx="10362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49FCCB-09CD-471F-AC06-757746E13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10362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219320" y="1447920"/>
            <a:ext cx="10362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1219320" y="3836160"/>
            <a:ext cx="10362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29DDE3-802E-455B-B329-F7D10DC80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10362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219320" y="1447920"/>
            <a:ext cx="5056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6529320" y="1447920"/>
            <a:ext cx="5056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1219320" y="3836160"/>
            <a:ext cx="5056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6529320" y="3836160"/>
            <a:ext cx="5056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0585C7-210A-4369-9C24-573B31F57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219320" y="274320"/>
            <a:ext cx="10362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66595-C29D-4C86-B50F-7DC3AA32A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10362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219320" y="1447920"/>
            <a:ext cx="3336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722840" y="1447920"/>
            <a:ext cx="3336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8226720" y="1447920"/>
            <a:ext cx="3336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1219320" y="3836160"/>
            <a:ext cx="3336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4722840" y="3836160"/>
            <a:ext cx="3336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8226720" y="3836160"/>
            <a:ext cx="3336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BAE6A2-A53C-47E5-8E36-E56CDF8AC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10362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219320" y="1447920"/>
            <a:ext cx="5056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529320" y="1447920"/>
            <a:ext cx="50569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219320" y="3836160"/>
            <a:ext cx="5056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CFB08-0E79-4833-8056-37B99C2B2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10362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219320" y="1447920"/>
            <a:ext cx="50569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529320" y="1447920"/>
            <a:ext cx="5056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529320" y="3836160"/>
            <a:ext cx="5056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D291F-6824-40F4-AC20-691B3A811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10362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19320" y="1447920"/>
            <a:ext cx="5056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529320" y="1447920"/>
            <a:ext cx="5056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19320" y="3836160"/>
            <a:ext cx="10362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E9299-18F2-41D5-B765-374B53FE2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ounded Rectangle 7"/>
          <p:cNvSpPr/>
          <p:nvPr/>
        </p:nvSpPr>
        <p:spPr>
          <a:xfrm>
            <a:off x="85680" y="69840"/>
            <a:ext cx="1201752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10362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219320" y="1447920"/>
            <a:ext cx="10362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da1f2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adced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eb641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eb641b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8229600" y="6190920"/>
            <a:ext cx="33019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46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46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18960" y="6172200"/>
            <a:ext cx="5283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84400" y="6277320"/>
            <a:ext cx="431280" cy="323280"/>
          </a:xfrm>
          <a:prstGeom prst="rect">
            <a:avLst/>
          </a:prstGeom>
          <a:solidFill>
            <a:srgbClr val="2da2bf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F5D05-1920-4CEE-BE67-2B95813200CF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ounded Rectangle 10"/>
          <p:cNvSpPr/>
          <p:nvPr/>
        </p:nvSpPr>
        <p:spPr>
          <a:xfrm>
            <a:off x="87480" y="69840"/>
            <a:ext cx="1201716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84240" y="1449360"/>
            <a:ext cx="12028320" cy="1527120"/>
          </a:xfrm>
          <a:prstGeom prst="rect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2"/>
          <p:cNvSpPr/>
          <p:nvPr/>
        </p:nvSpPr>
        <p:spPr>
          <a:xfrm>
            <a:off x="84240" y="1397160"/>
            <a:ext cx="12028320" cy="120600"/>
          </a:xfrm>
          <a:prstGeom prst="rect">
            <a:avLst/>
          </a:prstGeom>
          <a:solidFill>
            <a:srgbClr val="ad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4"/>
          <p:cNvSpPr/>
          <p:nvPr/>
        </p:nvSpPr>
        <p:spPr>
          <a:xfrm>
            <a:off x="84240" y="2976480"/>
            <a:ext cx="12028320" cy="111240"/>
          </a:xfrm>
          <a:prstGeom prst="rect">
            <a:avLst/>
          </a:prstGeom>
          <a:solidFill>
            <a:srgbClr val="474b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10362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1219320" y="1447920"/>
            <a:ext cx="10362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da1f2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adced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eb641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eb641b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8229600" y="6190920"/>
            <a:ext cx="33019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46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46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218960" y="6172200"/>
            <a:ext cx="5283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84400" y="6277320"/>
            <a:ext cx="431280" cy="323280"/>
          </a:xfrm>
          <a:prstGeom prst="rect">
            <a:avLst/>
          </a:prstGeom>
          <a:solidFill>
            <a:srgbClr val="2da2bf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21208-64F3-45A1-AB5F-AE04E7474C92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Rounded Rectangle 10"/>
          <p:cNvGrpSpPr/>
          <p:nvPr/>
        </p:nvGrpSpPr>
        <p:grpSpPr>
          <a:xfrm>
            <a:off x="79200" y="60480"/>
            <a:ext cx="12039840" cy="6711840"/>
            <a:chOff x="79200" y="60480"/>
            <a:chExt cx="12039840" cy="6711840"/>
          </a:xfrm>
        </p:grpSpPr>
        <p:pic>
          <p:nvPicPr>
            <p:cNvPr id="91" name="Rounded Rectangle 10" descr=""/>
            <p:cNvPicPr/>
            <p:nvPr/>
          </p:nvPicPr>
          <p:blipFill>
            <a:blip r:embed="rId3"/>
            <a:stretch/>
          </p:blipFill>
          <p:spPr>
            <a:xfrm>
              <a:off x="79200" y="60480"/>
              <a:ext cx="1203984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84320" y="166680"/>
              <a:ext cx="1182348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Rectangle 11"/>
          <p:cNvSpPr/>
          <p:nvPr/>
        </p:nvSpPr>
        <p:spPr>
          <a:xfrm flipV="1">
            <a:off x="92160" y="2376000"/>
            <a:ext cx="12018960" cy="92160"/>
          </a:xfrm>
          <a:prstGeom prst="rect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92160" y="2341440"/>
            <a:ext cx="12018960" cy="46080"/>
          </a:xfrm>
          <a:prstGeom prst="rect">
            <a:avLst/>
          </a:prstGeom>
          <a:solidFill>
            <a:srgbClr val="ad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4"/>
          <p:cNvSpPr/>
          <p:nvPr/>
        </p:nvSpPr>
        <p:spPr>
          <a:xfrm>
            <a:off x="90360" y="2468520"/>
            <a:ext cx="12020760" cy="46080"/>
          </a:xfrm>
          <a:prstGeom prst="rect">
            <a:avLst/>
          </a:prstGeom>
          <a:solidFill>
            <a:srgbClr val="474b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10362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1219320" y="1447920"/>
            <a:ext cx="10362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da1f2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adced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eb641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eb641b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8229600" y="6190920"/>
            <a:ext cx="33019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46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46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1066320" y="6172200"/>
            <a:ext cx="5334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84400" y="6275520"/>
            <a:ext cx="431280" cy="323280"/>
          </a:xfrm>
          <a:prstGeom prst="rect">
            <a:avLst/>
          </a:prstGeom>
          <a:solidFill>
            <a:srgbClr val="2da2bf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D4C06-2500-466F-BBFB-A2924B298F0D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8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ounded Rectangle 7"/>
          <p:cNvSpPr/>
          <p:nvPr/>
        </p:nvSpPr>
        <p:spPr>
          <a:xfrm>
            <a:off x="85680" y="69840"/>
            <a:ext cx="1201752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ounded Rectangle 10"/>
          <p:cNvSpPr/>
          <p:nvPr/>
        </p:nvSpPr>
        <p:spPr>
          <a:xfrm>
            <a:off x="85680" y="69840"/>
            <a:ext cx="1201752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10362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1219320" y="1447920"/>
            <a:ext cx="10362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da1f2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adced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eb641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eb641b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8229600" y="6190920"/>
            <a:ext cx="33019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46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46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1218960" y="6172200"/>
            <a:ext cx="5283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84400" y="6277320"/>
            <a:ext cx="431280" cy="323280"/>
          </a:xfrm>
          <a:prstGeom prst="rect">
            <a:avLst/>
          </a:prstGeom>
          <a:solidFill>
            <a:srgbClr val="2da2bf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61C40-CCF9-4FE8-9FC2-07D351DD98AF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8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ounded Rectangle 7"/>
          <p:cNvSpPr/>
          <p:nvPr/>
        </p:nvSpPr>
        <p:spPr>
          <a:xfrm>
            <a:off x="85680" y="69840"/>
            <a:ext cx="1201752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9"/>
          <p:cNvSpPr/>
          <p:nvPr/>
        </p:nvSpPr>
        <p:spPr>
          <a:xfrm flipV="1">
            <a:off x="90360" y="4682160"/>
            <a:ext cx="12009600" cy="91800"/>
          </a:xfrm>
          <a:prstGeom prst="rect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0"/>
          <p:cNvSpPr/>
          <p:nvPr/>
        </p:nvSpPr>
        <p:spPr>
          <a:xfrm>
            <a:off x="92160" y="4649760"/>
            <a:ext cx="12007800" cy="46080"/>
          </a:xfrm>
          <a:prstGeom prst="rect">
            <a:avLst/>
          </a:prstGeom>
          <a:solidFill>
            <a:srgbClr val="ad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1"/>
          <p:cNvSpPr/>
          <p:nvPr/>
        </p:nvSpPr>
        <p:spPr>
          <a:xfrm>
            <a:off x="92160" y="4773600"/>
            <a:ext cx="12007800" cy="49320"/>
          </a:xfrm>
          <a:prstGeom prst="rect">
            <a:avLst/>
          </a:prstGeom>
          <a:solidFill>
            <a:srgbClr val="474b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10362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1219320" y="1447920"/>
            <a:ext cx="10362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da1f2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adced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eb641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eb641b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8229600" y="6190920"/>
            <a:ext cx="33019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46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46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1218960" y="6172200"/>
            <a:ext cx="5181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84400" y="6275520"/>
            <a:ext cx="431280" cy="323280"/>
          </a:xfrm>
          <a:prstGeom prst="rect">
            <a:avLst/>
          </a:prstGeom>
          <a:solidFill>
            <a:srgbClr val="2da2bf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DF537-34AD-4F52-9235-163E3B051F5C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8080" y="364680"/>
            <a:ext cx="10515600" cy="34210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ANAVIL-Avvaiyar"/>
              </a:rPr>
              <a:t>நாள் </a:t>
            </a:r>
            <a:r>
              <a:rPr b="1" lang="en-US" sz="4400" spc="-1" strike="noStrike">
                <a:solidFill>
                  <a:srgbClr val="464646"/>
                </a:solidFill>
                <a:latin typeface="Arial"/>
                <a:ea typeface="Arial"/>
              </a:rPr>
              <a:t>2</a:t>
            </a:r>
            <a:br>
              <a:rPr sz="4400"/>
            </a:br>
            <a:br>
              <a:rPr sz="4400"/>
            </a:br>
            <a:r>
              <a:rPr b="1" lang="en-US" sz="4000" spc="-1" strike="noStrike">
                <a:solidFill>
                  <a:srgbClr val="464646"/>
                </a:solidFill>
                <a:latin typeface="VANAVIL-Avvaiyar"/>
              </a:rPr>
              <a:t>fâj¥ ghl¤Â‰fhd f‰wš éisÎfŸ </a:t>
            </a:r>
            <a:br>
              <a:rPr sz="4000"/>
            </a:br>
            <a:r>
              <a:rPr b="1" lang="en-US" sz="4000" spc="-1" strike="noStrike">
                <a:solidFill>
                  <a:srgbClr val="464646"/>
                </a:solidFill>
                <a:latin typeface="VANAVIL-Avvaiyar"/>
              </a:rPr>
              <a:t>bjhl¡f ãiy (90 </a:t>
            </a:r>
            <a:r>
              <a:rPr b="1" lang="en-US" sz="3200" spc="-1" strike="noStrike">
                <a:solidFill>
                  <a:srgbClr val="464646"/>
                </a:solidFill>
                <a:latin typeface="VANAVIL-Avvaiyar"/>
              </a:rPr>
              <a:t>நிமிடங்கள்</a:t>
            </a:r>
            <a:r>
              <a:rPr b="1" lang="en-US" sz="4000" spc="-1" strike="noStrike">
                <a:solidFill>
                  <a:srgbClr val="464646"/>
                </a:solidFill>
                <a:latin typeface="VANAVIL-Avvaiyar"/>
              </a:rPr>
              <a:t>)</a:t>
            </a: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457200"/>
            <a:ext cx="110491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6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Bamini"/>
              </a:rPr>
              <a:t>fz;lwpAk; kdg;ghq;F: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16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amini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Bamini"/>
              </a:rPr>
              <a:t>gpur;ridfisj; jPh;j;jy; - Gjpa fz;L gpbg;GfSf;F ek;ik mioj;J nry;Yk;;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16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Bamini"/>
              </a:rPr>
              <a:t>jh;f;fhPjpahf rpe;jpj;jy;: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16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amini"/>
              </a:rPr>
              <a:t>tbtpay; vd;gJ eilKiw jh;f;fk;.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16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amini"/>
              </a:rPr>
              <a:t>eilKiwapy; vspikahfg; czuf; $baJkhd fhuzfhhPa tpjpfis cs;slf;fpaJ tbtpay; -- B.Myk;gh;l;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16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amini"/>
              </a:rPr>
              <a:t> ‘</a:t>
            </a:r>
            <a:r>
              <a:rPr b="0" lang="en-US" sz="2600" spc="-1" strike="noStrike">
                <a:solidFill>
                  <a:srgbClr val="000000"/>
                </a:solidFill>
                <a:latin typeface="Bamini"/>
              </a:rPr>
              <a:t>FwpaPl;L jh;f;fNk fzpjk;&gt; fzpjNk FwpaPl;L jh;f;fk;’ -- C.J.nfa;rh;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 txBox="1"/>
          <p:nvPr/>
        </p:nvSpPr>
        <p:spPr>
          <a:xfrm>
            <a:off x="609480" y="457200"/>
            <a:ext cx="110491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4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amini"/>
              </a:rPr>
              <a:t>fzpj Ghpjy;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11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amin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amini"/>
              </a:rPr>
              <a:t>xt;nthU fzpj $w;Wk; rhpah&gt; jtwh&gt; fzpj R+j;jpuq;fs; vt;thW ngwg;gLfpd;wd vd Muha;tJ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11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11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amin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Bamini"/>
              </a:rPr>
              <a:t>Ghpjy; vd;gJ xd;iw Nehf;fp nray;gl itg;gJ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11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11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amin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amini"/>
              </a:rPr>
              <a:t>xU Fwpg;gpl;l mwptpypUe;J nghJikg;gLj;j cjTtNj cz;ikahd Ghpjy;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11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11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amini"/>
              </a:rPr>
              <a:t>fzpj fUj;J Ghpjypd; ,U J}z;fs;: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11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amini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Bamin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amini"/>
              </a:rPr>
              <a:t>fUj;J mwpT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ctual Knowledge</a:t>
            </a:r>
            <a:r>
              <a:rPr b="0" lang="en-US" sz="2400" spc="-1" strike="noStrike">
                <a:solidFill>
                  <a:srgbClr val="000000"/>
                </a:solidFill>
                <a:latin typeface="Bamin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11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amini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Bamin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amini"/>
              </a:rPr>
              <a:t>nray;Kiw jpwdwpT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al Skill</a:t>
            </a:r>
            <a:r>
              <a:rPr b="0" lang="en-US" sz="2400" spc="-1" strike="noStrike">
                <a:solidFill>
                  <a:srgbClr val="000000"/>
                </a:solidFill>
                <a:latin typeface="Bamin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457200" y="304560"/>
            <a:ext cx="1135368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amini"/>
              </a:rPr>
              <a:t>fUj;J mwpT 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ctual Knowledge</a:t>
            </a:r>
            <a:r>
              <a:rPr b="1" lang="en-US" sz="2400" spc="-1" strike="noStrike">
                <a:solidFill>
                  <a:srgbClr val="000000"/>
                </a:solidFill>
                <a:latin typeface="Bamini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amini"/>
              </a:rPr>
              <a:t>xU tiuaiwahfNth my;yJ $w;whfNth my;yJ Njw;wkhfNth Mf ,Uf;fyhk;.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amini"/>
              </a:rPr>
              <a:t>vLj;Jf;fhl;Lfs;&gt; njhlh;Gfs;&gt; epfo;Tfs; %yk; KOikahf Ghpe;J nfhs;Sk; tha;g;Gfs; mspf;fg;gly;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amini"/>
              </a:rPr>
              <a:t> </a:t>
            </a:r>
            <a:r>
              <a:rPr b="1" lang="en-US" sz="2400" spc="-1" strike="noStrike">
                <a:solidFill>
                  <a:srgbClr val="000000"/>
                </a:solidFill>
                <a:latin typeface="Bamini"/>
              </a:rPr>
              <a:t>nray;Kiw jpwdwpT 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al Skill</a:t>
            </a:r>
            <a:r>
              <a:rPr b="1" lang="en-US" sz="2400" spc="-1" strike="noStrike">
                <a:solidFill>
                  <a:srgbClr val="000000"/>
                </a:solidFill>
                <a:latin typeface="Bamin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amin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amini"/>
              </a:rPr>
              <a:t>nray;Kiw mwpthdJ fUj;J Ghpjiy Vw;gLj;j Ntz;ba mtrpakpy;iy.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amin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amini"/>
              </a:rPr>
              <a:t>vLj;Jf;fhl;lhf&gt; 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Bamini"/>
              </a:rPr>
              <a:t>2 vd;w tFj;jy; nraiy mwpe;J tpil 3 vdf; $Wk; Foe;ij Ghpe;J nfhz;L jhd; gjpyspf;fpwhd; vd;gjpy;iy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amin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Bamini"/>
              </a:rPr>
              <a:t>fUj;J Ghpjy; kw;Wk; nray;Kiw jpwd; Mfpa ,uz;LNk mtrpakhdjhFk;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 txBox="1"/>
          <p:nvPr/>
        </p:nvSpPr>
        <p:spPr>
          <a:xfrm>
            <a:off x="452520" y="1142640"/>
            <a:ext cx="112060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VANAVIL-Avvaiyar"/>
              </a:rPr>
              <a:t>fiy¤Â£l vÂ®gh®¥òfŸ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5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ANAVIL-Avvaiyar"/>
              </a:rPr>
              <a:t>xU  F¿¥Ã£l fhy¤Â‰FŸ,  xU FHªij bgw nt©oa m¿Î,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5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ANAVIL-Avvaiyar"/>
              </a:rPr>
              <a:t>mjid¥ ga‹gL¤Â ts®¡f nt©oa Âw‹fŸ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5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ANAVIL-Avvaiyar"/>
              </a:rPr>
              <a:t>cŸsl¡»a kd¥gh‹ikia miltjhF«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5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ctr">
              <a:lnSpc>
                <a:spcPct val="15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VANAVIL-Avvaiyar"/>
              </a:rPr>
              <a:t>f‰wš éisÎfŸ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5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ANAVIL-Avvaiyar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VANAVIL-Avvaiyar"/>
              </a:rPr>
              <a:t>fiy¤Â£l vÂ®gh®¥òfëèUªJ f‰wš éisÎfŸ bgw¥gL»‹wd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10515600" cy="99072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ANAVIL-Avvaiyar"/>
              </a:rPr>
              <a:t>fiy¤Â£l vÂ®gh®¥òfŸ</a:t>
            </a:r>
            <a:br>
              <a:rPr sz="2800"/>
            </a:br>
            <a:r>
              <a:rPr b="1" lang="en-US" sz="2800" spc="-1" strike="noStrike">
                <a:solidFill>
                  <a:srgbClr val="7030a0"/>
                </a:solidFill>
                <a:latin typeface="VANAVIL-Avvaiyar"/>
              </a:rPr>
              <a:t>(</a:t>
            </a:r>
            <a:r>
              <a:rPr b="1" lang="en-US" sz="2800" spc="-1" strike="noStrike">
                <a:solidFill>
                  <a:srgbClr val="ff0000"/>
                </a:solidFill>
                <a:latin typeface="VANAVIL-Avvaiyar"/>
              </a:rPr>
              <a:t> </a:t>
            </a:r>
            <a:r>
              <a:rPr b="1" lang="en-US" sz="2800" spc="-1" strike="noStrike">
                <a:solidFill>
                  <a:srgbClr val="7030a0"/>
                </a:solidFill>
                <a:latin typeface="VANAVIL-Avvaiyar"/>
              </a:rPr>
              <a:t>bjhl¡f ãiy tF¥òfŸ)</a:t>
            </a:r>
            <a:endParaRPr b="0" lang="en-US" sz="28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685440" y="1371240"/>
            <a:ext cx="111250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1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ANAVIL-Avvaiyar"/>
              </a:rPr>
              <a:t>m‹whl thœ¡if NHY¡F« fâj Áªjid¡F« cŸs bjhl®ig nk«gL¤Jjš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1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1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ANAVIL-Avvaiyar"/>
              </a:rPr>
              <a:t>tot§fŸ k‰W« mj‹ g©òfis òçªJ bfhŸtnjhL. mt‰iw NHèš fhQ« bghU£fnshL bghU¤Â gh®¤J x‰Wik k‰W« nt‰Wikfis btë¡bfh©Ujš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1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1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ANAVIL-Avvaiyar"/>
              </a:rPr>
              <a:t>tot§fŸ k‰W« mt‰nwhL bjhl®òila bghU£fis c‰Wneh¡» g©òfë‹ mo¥gilæš x‰Wik, nt‰Wikfis khzt®fŸ òçªJ bfhŸSjš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533160" y="228600"/>
            <a:ext cx="1104876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ANAVIL-Avvaiyar"/>
              </a:rPr>
              <a:t>m‹whl thœéš vÂ®bfhŸS« Á¡fšfis v©rh® mo¥gil brašfis (T£lš, fê¤jš, bgU¡fš, tF¤jš) bfh©L jd¡fhd têæš Ô®¤jš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ANAVIL-Avvaiyar"/>
              </a:rPr>
              <a:t>v©fâj  brašghLfëš mikÍ« têKiwfëš fâj bkhê k‰W« fâj F¿pLfisŒ   ga‹gL¤J« Âwid  nk«gL¤Jjš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ANAVIL-Avvaiyar"/>
              </a:rPr>
              <a:t>Ïu©L mšyJ mj‰F nk‰g£l v©fS¡F Ïilnaahd brašfë‹ éisit njhuha¥gL¤jÎ« m‹whl  thœéaš brašghLfëš ga‹gL¤jÎ« m¿jš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 txBox="1"/>
          <p:nvPr/>
        </p:nvSpPr>
        <p:spPr>
          <a:xfrm>
            <a:off x="838080" y="533520"/>
            <a:ext cx="10515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ANAVIL-Avvaiyar"/>
              </a:rPr>
              <a:t>Ã‹d« v‹gJ KG¥ bghUë‹ xU gFÂ vdÎ«, vëa Ã‹d§fë‹ tçiria f©l¿aÎ« m¿ªÂU¤jš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ANAVIL-Avvaiyar"/>
              </a:rPr>
              <a:t>étu§fis nrfç¥gnjhL, nrfç¤j étu§fis  tH§fÎ«, ifahsÎ« m‹whl thœéš ga‹gL¤j m¿ªÂU¤jš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ANAVIL-Avvaiyar"/>
              </a:rPr>
              <a:t>v©fŸ k‰W« tot§fë‹ mik¥Ãid milahs« fhzÎ« éçth¡f« brŒaÎ« bjçªÂU¤jš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23440" y="142560"/>
            <a:ext cx="10829880" cy="57132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64646"/>
                </a:solidFill>
                <a:latin typeface="VANAVIL-Avvaiyar"/>
              </a:rPr>
              <a:t> </a:t>
            </a:r>
            <a:r>
              <a:rPr b="1" lang="en-US" sz="3600" spc="-1" strike="noStrike">
                <a:solidFill>
                  <a:srgbClr val="464646"/>
                </a:solidFill>
                <a:latin typeface="VANAVIL-Avvaiyar"/>
              </a:rPr>
              <a:t>Áw¥ò</a:t>
            </a:r>
            <a:r>
              <a:rPr b="0" lang="en-US" sz="3600" spc="-1" strike="noStrike">
                <a:solidFill>
                  <a:srgbClr val="464646"/>
                </a:solidFill>
                <a:latin typeface="VANAVIL-Avvaiyar"/>
              </a:rPr>
              <a:t>¤</a:t>
            </a:r>
            <a:r>
              <a:rPr b="1" lang="en-US" sz="3600" spc="-1" strike="noStrike">
                <a:solidFill>
                  <a:srgbClr val="464646"/>
                </a:solidFill>
                <a:latin typeface="VANAVIL-Avvaiyar"/>
              </a:rPr>
              <a:t>njit FHªijfS¡fhd F¿¥òfŸ (fâj«)</a:t>
            </a:r>
            <a:endParaRPr b="0" lang="en-US" sz="36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237600" y="1071360"/>
            <a:ext cx="1178748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VANAVIL-Avvaiyar"/>
              </a:rPr>
              <a:t>Áy FHªijfŸ bjh£Lz®ªJ f‰»‹wd®,</a:t>
            </a:r>
            <a:endParaRPr b="0" lang="en-US" sz="31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VANAVIL-Avvaiyar"/>
              </a:rPr>
              <a:t>Áy FHªijfŸ tot§fŸ, cUt§fŸ, fz¡»Ljš ngh‹w ghl¤ bjhl®òila ghl¡ fU¤J¡fis Áw¥ò¡ fUéfis¡ bfh©L f‰»‹wd®</a:t>
            </a:r>
            <a:endParaRPr b="0" lang="en-US" sz="31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VANAVIL-Avvaiyar"/>
              </a:rPr>
              <a:t>ÁyU¡F vëa bkhêeilÍ«, mÂf gl§fS« njit¥gL»‹wd.</a:t>
            </a:r>
            <a:endParaRPr b="0" lang="en-US" sz="31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VANAVIL-Avvaiyar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VANAVIL-Avvaiyar"/>
              </a:rPr>
              <a:t>ÁyU¡F juÎfisô»¤J m¿a   tiugl«, m£ltizfŸ mšyJ br›tf¥g£il és¡f¥gl« ngh‹w gFÂfëš cjé njit¥glyh«.</a:t>
            </a:r>
            <a:endParaRPr b="0" lang="en-US" sz="31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1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380520" y="357120"/>
            <a:ext cx="1157292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ANAVIL-Avvaiyar"/>
              </a:rPr>
              <a:t>kd¡fz¡if brŒÍ«nghJ«, juÎfis ifahS« nghJ« cjéfŸ njit¥glyh«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ANAVIL-Avvaiyar"/>
              </a:rPr>
              <a:t>msÅL k‰W« fU¤Âaš Áªjidfis¥ bgWtÂš V‰gL« Ïl®ghLfis¡ fisa jftš bjhêšE£g¡ fUéfis¥ ga‹gL¤jyh«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8080" y="214200"/>
            <a:ext cx="10515600" cy="64296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4646"/>
                </a:solidFill>
                <a:latin typeface="VANAVIL-Avvaiyar"/>
              </a:rPr>
              <a:t>gh®it¡FiwghLila  FHªijfS¡F: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80520" y="1071360"/>
            <a:ext cx="1157292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ANAVIL-Avvaiyar"/>
              </a:rPr>
              <a:t>Ïltik¥ò (Ïl¤ij mil¤jš) F¿¤j fU¤ij ts®¤jš k‰W« Ïltik¥òfS¡»ilnaÍŸs bjhl®ig òçªJ bfhŸSjš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ANAVIL-Avvaiyar"/>
              </a:rPr>
              <a:t>K¥gçkhz bghUŸfŸ  ÏU gçkhz totkhf kh‰w« bgWtij òçªJ bfhŸSjš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ANAVIL-Avvaiyar"/>
              </a:rPr>
              <a:t>fâj¤Âš ga‹gL¤j¥gL« Áw¥ò vG¤Jfis¥ (F¿pLfŸ) òçªJ bfhŸSjš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10515600" cy="70164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64646"/>
                </a:solidFill>
                <a:latin typeface="Bamini"/>
              </a:rPr>
              <a:t>njhlf;f fy;tp gUtk</a:t>
            </a:r>
            <a:r>
              <a:rPr b="0" lang="en-US" sz="3600" spc="-1" strike="noStrike">
                <a:solidFill>
                  <a:srgbClr val="464646"/>
                </a:solidFill>
                <a:latin typeface="Bamini"/>
              </a:rPr>
              <a:t>;:</a:t>
            </a:r>
            <a:endParaRPr b="0" lang="en-US" sz="36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380880" y="873000"/>
            <a:ext cx="1150632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1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amini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Bamini"/>
              </a:rPr>
              <a:t>Foe;ijfSf;F mbg;gil fl;likg;ig cUthf;Fk; jsk;  njhlf;f fy;tp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1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1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amini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Bamini"/>
              </a:rPr>
              <a:t>Foe;ijfsplk; tpjpKiwNahL fw;gpj;jiyf; fhl;bYk;&gt; fw;wYf;F jahh;gLj;Jk; R+oiy cUthf;Fjy;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1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1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amini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Bamini"/>
              </a:rPr>
              <a:t>Foe;ijfis fw;wYf;fhf jahh;gLj;jypd;wp Mrphpah; vt;tpj fw;gpj;jiyAk; Mrpauhy; epfo;j;jptpl ,ayhJ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1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1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amini"/>
              </a:rPr>
              <a:t>Foe;ijAk; ntt;NtW FLk;gk;&gt; r%f R+oypUe;J gs;spf; $lj;ij ehb fw;Fk; NghJ&gt;vz;zpay; rhh; jpwd;fis tpiuthfTk;&gt; njspthfTk;&gt; Jy;ypakhfTk; fw;f nra;tjy;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7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219320" y="274680"/>
            <a:ext cx="10362960" cy="5112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64646"/>
                </a:solidFill>
                <a:latin typeface="VANAVIL-Avvaiyar"/>
              </a:rPr>
              <a:t>gh®it¡FiwghLila  FHªijfS¡F</a:t>
            </a:r>
            <a:endParaRPr b="0" lang="en-US" sz="36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219320" y="1447920"/>
            <a:ext cx="10362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ANAVIL-Avvaiyar"/>
              </a:rPr>
              <a:t>rk‹ghLfŸ ngh‹w fâj¡ fU¤Jfis xè¥gÂÎ brŒtÂš Ïl®ghLfis fisjš 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ANAVIL-Avvaiyar"/>
              </a:rPr>
              <a:t>bghUŸ / Ïl« rh® tçir¥gL¤Jjš, ãw«  rh® F¿pL ga‹gL¤Jjš ngh‹wt‰iw ÃbuŒè Kiwæš go¤jš k‰W«vGJtÂš Ïl®ghLfis fisjš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ANAVIL-Avvaiyar"/>
              </a:rPr>
              <a:t>fâj ÃbuŒè mšyJ Úbk¤ Kiwæš f‰wš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56376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64646"/>
                </a:solidFill>
                <a:latin typeface="VANAVIL-Avvaiyar"/>
              </a:rPr>
              <a:t>bré¤Âw‹ FiwghLila FHªijfS¡fhf:</a:t>
            </a:r>
            <a:endParaRPr b="0" lang="en-US" sz="36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595080" y="1142640"/>
            <a:ext cx="1128708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ANAVIL-Avvaiyar"/>
              </a:rPr>
              <a:t>bkhêæaš ts®¢Áæš V‰gL« fhyjhkj«, fâj¥ghl¤Âš cŸs bghJthd k‰W« ghl« rh®ªj brh‰fsŠÁa¤Âš g‰wh¡Fiwia V‰gL¤J»wJ. (c.«) jiyÑœ neça th¡»a fz¡Ffëš ga‹gL¤j¥gL« fâj brh‰fis¥ go¤J òçªJ bfhŸSjš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ANAVIL-Avvaiyar"/>
              </a:rPr>
              <a:t>th¡»a¡ fz¡Ffis¥ òçªJ bfhŸSjš (xU bghUis¥ òçªJ bfhŸS« bghU£L gšntW th®¤ijfis¥ ga‹gL¤Jjš)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ANAVIL-Avvaiyar"/>
              </a:rPr>
              <a:t>t£o Åj«, m£ltiz, nfhz«, Åj«, fd msÎ,  Âw‹, òŸë ngh‹w gy bghUŸ jU« brh‰fis ntWgL¤Â m¿jš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219320" y="142920"/>
            <a:ext cx="10362960" cy="64296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64646"/>
                </a:solidFill>
                <a:latin typeface="VANAVIL-Avvaiyar"/>
              </a:rPr>
              <a:t>bré¤Âw‹ FiwghLila FHªijfS¡fhf</a:t>
            </a:r>
            <a:endParaRPr b="0" lang="en-US" sz="36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595440" y="785520"/>
            <a:ext cx="1114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1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ANAVIL-Avvaiyar"/>
              </a:rPr>
              <a:t>fâj brh‰bwhl®fis cj£L mirÎ Kiw _y« ntWgL¤Â m¿jš.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1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1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ANAVIL-Avvaiyar"/>
              </a:rPr>
              <a:t>mjhtJ gÂyhf cgnah»¤jš k‰W« mo¥gil brašghLfë‹  tçir¡ »uk¤ij m¿jèš Áuk« (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Tens and Tenths, sixty and sixteen)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1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ANAVIL-Avvaiyar"/>
              </a:rPr>
              <a:t>tiuaW¡f¥g£l m¿Îrh® c¤ÂfŸ ga‹gL¤Â, fâj Á¡fY¡F cfªj étu§fis bjçÎ brŒjš k‰W« Ô®¡f¤ njitahd mQF Kiwfis m¿jš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ANAVIL-Avvaiyar"/>
              </a:rPr>
              <a:t>òyQz®Î FiwghLila FHªijfS¡F m¿Îrh® FiwghL bgWjš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ANAVIL-Avvaiyar"/>
              </a:rPr>
              <a:t>tçir¡ »uk«, Á¡fšfis Ô®¤jš k‰W« ÏlkÂ¥ig m¿tÂš V‰gL«  bjëé‹ik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1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 txBox="1"/>
          <p:nvPr/>
        </p:nvSpPr>
        <p:spPr>
          <a:xfrm>
            <a:off x="452160" y="428760"/>
            <a:ext cx="11287080" cy="60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ANAVIL-Avvaiyar"/>
              </a:rPr>
              <a:t>fz¡»Ljš, v©fë‹ khWghLfŸ, fz¡if efbyL¤jš ngh‹w fâj mo¥gil¢ brašghLfëš fâj F¿p£Lfis¥ ga‹gL¤JtÂš FH¥g«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ANAVIL-Avvaiyar"/>
              </a:rPr>
              <a:t>toéaèš bt›ntW tot§fis milahs§ fhQjš k‰W« g©ig m¿jš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ANAVIL-Avvaiyar"/>
              </a:rPr>
              <a:t>Ïa‰fâj« k‰W« KG v©fŸ ngh‹w fU¤Âaš ãiy rh®ªj fU¤JfŸ, th¡»a fz¡Ffis¥ òçªJ bfhŸSjš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ANAVIL-Avvaiyar"/>
              </a:rPr>
              <a:t>th¡»a¡ fz¡Ffëš ga‹gL¤j¥gL« fâj¢  brh‰fis¥ go¤JòçªJ bfhŸSjš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1219320" y="1447920"/>
            <a:ext cx="10362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erpetua"/>
              </a:rPr>
              <a:t>நன்றி</a:t>
            </a:r>
            <a:endParaRPr b="0" lang="en-US" sz="4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609480" y="380520"/>
            <a:ext cx="1104912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1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amini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Bamini"/>
              </a:rPr>
              <a:t>Foe;ijfs; jdJ cldb R+oypy; chpa fw;wy; mDgtq;fs; %yk; mbg;gilf; fzpjf; fUj;Jfis Ghpe;J nfhs;s njhlf;f fy;tp fzpjk; mikjy;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1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1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amini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Bamini"/>
              </a:rPr>
              <a:t>fzpj mwpthdJ gUg;nghUs; (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rete</a:t>
            </a:r>
            <a:r>
              <a:rPr b="0" lang="en-US" sz="2600" spc="-1" strike="noStrike">
                <a:solidFill>
                  <a:srgbClr val="000000"/>
                </a:solidFill>
                <a:latin typeface="Bamini"/>
              </a:rPr>
              <a:t>) epiyapypUe;J fUj;jpay; (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stract</a:t>
            </a:r>
            <a:r>
              <a:rPr b="0" lang="en-US" sz="2600" spc="-1" strike="noStrike">
                <a:solidFill>
                  <a:srgbClr val="000000"/>
                </a:solidFill>
                <a:latin typeface="Bamini"/>
              </a:rPr>
              <a:t>) epiy (m)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1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1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amini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Bamini"/>
              </a:rPr>
              <a:t>Fwpg;gpl;l vLj;Jf; fhl;bypUe;J nghJ tpjpfisr; rhpghh;f;f&gt; cUthf;f cjTk; mbg;gil epiyNa njhlf;f fy;tpapd; epiyahFk;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1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1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amini"/>
              </a:rPr>
              <a:t>; fzpj fUj;Jfis rhpahf Ghpe;Jnfhs;sTk;&gt; Ghpe;J nfhz;lij Gjpa R+oypy; gad;gLj;Jk; tpjkhf jpwid tsh;gJ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10515600" cy="77796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a-IN" sz="4000" spc="-1" strike="noStrike">
                <a:solidFill>
                  <a:srgbClr val="464646"/>
                </a:solidFill>
                <a:latin typeface="Franklin Gothic Book"/>
                <a:cs typeface="Latha"/>
              </a:rPr>
              <a:t>தேசிய திறனடைவு ஆய்வு</a:t>
            </a: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837720" y="928800"/>
            <a:ext cx="10896840" cy="564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4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2000" spc="-1" strike="noStrike">
                <a:solidFill>
                  <a:srgbClr val="000000"/>
                </a:solidFill>
                <a:latin typeface="Perpetua"/>
                <a:cs typeface="Latha"/>
              </a:rPr>
              <a:t>தரமான கல்வியினைக் கொண்டு செல்லுவதில் இடர்பாட்டை களைய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4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4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2000" spc="-1" strike="noStrike">
                <a:solidFill>
                  <a:srgbClr val="000000"/>
                </a:solidFill>
                <a:latin typeface="Perpetua"/>
                <a:cs typeface="Latha"/>
              </a:rPr>
              <a:t>ஒன்றை காரண காரீயத்தோடு சிந்திக்க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, </a:t>
            </a:r>
            <a:r>
              <a:rPr b="0" lang="ta-IN" sz="2000" spc="-1" strike="noStrike">
                <a:solidFill>
                  <a:srgbClr val="000000"/>
                </a:solidFill>
                <a:latin typeface="Perpetua"/>
                <a:cs typeface="Latha"/>
              </a:rPr>
              <a:t>பகுத்தாராய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, </a:t>
            </a:r>
            <a:r>
              <a:rPr b="0" lang="ta-IN" sz="2000" spc="-1" strike="noStrike">
                <a:solidFill>
                  <a:srgbClr val="000000"/>
                </a:solidFill>
                <a:latin typeface="Perpetua"/>
                <a:cs typeface="Latha"/>
              </a:rPr>
              <a:t>கருத்தை வெளிப்படுத்த கூடிய அறிவு திறன் ஆகியவற்றை திறன்பட பெறவும் கையாளுதல் அவசியம்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4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4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ta-IN" sz="2000" spc="-1" strike="noStrike">
                <a:solidFill>
                  <a:srgbClr val="000000"/>
                </a:solidFill>
                <a:latin typeface="Perpetua"/>
                <a:cs typeface="Latha"/>
              </a:rPr>
              <a:t>பள்ளியில் மாணவர்கள் சேர்த்தல்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, </a:t>
            </a:r>
            <a:r>
              <a:rPr b="0" lang="ta-IN" sz="2000" spc="-1" strike="noStrike">
                <a:solidFill>
                  <a:srgbClr val="000000"/>
                </a:solidFill>
                <a:latin typeface="Perpetua"/>
                <a:cs typeface="Latha"/>
              </a:rPr>
              <a:t>முடித்தல் தேவையானது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, </a:t>
            </a:r>
            <a:r>
              <a:rPr b="0" lang="ta-IN" sz="2000" spc="-1" strike="noStrike">
                <a:solidFill>
                  <a:srgbClr val="000000"/>
                </a:solidFill>
                <a:latin typeface="Perpetua"/>
                <a:cs typeface="Latha"/>
              </a:rPr>
              <a:t>போதுமானதன்று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4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4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2000" spc="-1" strike="noStrike">
                <a:solidFill>
                  <a:srgbClr val="000000"/>
                </a:solidFill>
                <a:latin typeface="Perpetua"/>
                <a:cs typeface="Latha"/>
              </a:rPr>
              <a:t>குழந்தையிடம் அறிவு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, </a:t>
            </a:r>
            <a:r>
              <a:rPr b="0" lang="ta-IN" sz="2000" spc="-1" strike="noStrike">
                <a:solidFill>
                  <a:srgbClr val="000000"/>
                </a:solidFill>
                <a:latin typeface="Perpetua"/>
                <a:cs typeface="Latha"/>
              </a:rPr>
              <a:t>திறன்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(</a:t>
            </a:r>
            <a:r>
              <a:rPr b="0" lang="ta-IN" sz="2000" spc="-1" strike="noStrike">
                <a:solidFill>
                  <a:srgbClr val="000000"/>
                </a:solidFill>
                <a:latin typeface="Perpetua"/>
                <a:cs typeface="Latha"/>
              </a:rPr>
              <a:t>ஆற்றல் அடைவு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) </a:t>
            </a:r>
            <a:r>
              <a:rPr b="0" lang="ta-IN" sz="2000" spc="-1" strike="noStrike">
                <a:solidFill>
                  <a:srgbClr val="000000"/>
                </a:solidFill>
                <a:latin typeface="Perpetua"/>
                <a:cs typeface="Latha"/>
              </a:rPr>
              <a:t>மேம்படுத்துவதன் மூலம் வாழ்வாதாரத்தை உயர்த்தி கொள்ள வாய்ப்பளித்தல்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8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880920" y="713880"/>
            <a:ext cx="10515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7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2600" spc="-1" strike="noStrike">
                <a:solidFill>
                  <a:srgbClr val="000000"/>
                </a:solidFill>
                <a:latin typeface="Perpetua"/>
                <a:cs typeface="Latha"/>
              </a:rPr>
              <a:t>கற்றல் நிலை</a:t>
            </a:r>
            <a:r>
              <a:rPr b="0" lang="ta-IN" sz="2600" spc="-1" strike="noStrike">
                <a:solidFill>
                  <a:srgbClr val="000000"/>
                </a:solidFill>
                <a:latin typeface="Perpetua"/>
                <a:ea typeface="Latha"/>
              </a:rPr>
              <a:t>/</a:t>
            </a:r>
            <a:r>
              <a:rPr b="0" lang="ta-IN" sz="2600" spc="-1" strike="noStrike">
                <a:solidFill>
                  <a:srgbClr val="000000"/>
                </a:solidFill>
                <a:latin typeface="Perpetua"/>
                <a:cs typeface="Latha"/>
              </a:rPr>
              <a:t>கற்றல் செயலை தொடர்ந்து அளத்தல்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7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7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2600" spc="-1" strike="noStrike">
                <a:solidFill>
                  <a:srgbClr val="000000"/>
                </a:solidFill>
                <a:latin typeface="Perpetua"/>
                <a:cs typeface="Latha"/>
              </a:rPr>
              <a:t>வகுப்பிற்கேற்ப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, </a:t>
            </a:r>
            <a:r>
              <a:rPr b="0" lang="ta-IN" sz="2600" spc="-1" strike="noStrike">
                <a:solidFill>
                  <a:srgbClr val="000000"/>
                </a:solidFill>
                <a:latin typeface="Perpetua"/>
                <a:cs typeface="Latha"/>
              </a:rPr>
              <a:t>கலைத்திட்ட பாடப்பொருளுக்கேற்ப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, </a:t>
            </a:r>
            <a:r>
              <a:rPr b="0" lang="ta-IN" sz="2600" spc="-1" strike="noStrike">
                <a:solidFill>
                  <a:srgbClr val="000000"/>
                </a:solidFill>
                <a:latin typeface="Perpetua"/>
                <a:cs typeface="Latha"/>
              </a:rPr>
              <a:t>ஆரோக்கியமான கல்வி அமைப்பதற்கான கற்றல் அடைவு ஆதாரத்தை வழங்குதல்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7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38080" y="75960"/>
            <a:ext cx="10515600" cy="6094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64646"/>
                </a:solidFill>
                <a:latin typeface="Bamini"/>
              </a:rPr>
              <a:t>ghlj;jpl;lk; </a:t>
            </a:r>
            <a:endParaRPr b="0" lang="en-US" sz="36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440" y="571320"/>
            <a:ext cx="1116324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amini"/>
              </a:rPr>
              <a:t>fzpj fUj;JfNshL njhlh;Gila gpw ghl fUj;Jfis ,izj;J Ghpe;J nfhs;Sjy;&gt; 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amini"/>
              </a:rPr>
              <a:t>fhuz fhhPaj;NjhL nray;gLk; kdepiyia cUthf;FtJ 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amini"/>
              </a:rPr>
              <a:t>fzpj nkhop kw;Wk; FwpaPlhdJ ePz;l thf;fpaq;fis FWfpa tbtpYk;&gt; 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amini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Bamini"/>
              </a:rPr>
              <a:t>fUj;Jfis rhpahd tbtpYk; nfhLg;gjhFk;.;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amini"/>
              </a:rPr>
              <a:t>md;whl tho;tpy; vOk; gpur;ridfSf;F fzpj FwpaPl;L tbtj;jpd; Jizf;nfhz;L jPh;f;f ,aYk;.  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amini"/>
              </a:rPr>
              <a:t>ngUk;ghyhd fzpj fz;L gpbg;Gfs; fzpj nkhopapd; Jizf;nfhz;Nl tptupf;f ,aYk;.  v.fh Id;];Bd; rkd;ghl;il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=mc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Bamini"/>
              </a:rPr>
              <a:t>vd Fwpj;J fhl;Ljy;.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amini"/>
              </a:rPr>
              <a:t>FwpaPLfis gl;baypl Ntz;bajpy;iy vd;whYk;&gt; mitfspd; gad;ghl;il mwpe;J nfhs;tJ mtrpakhFk;. 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76240" y="152280"/>
            <a:ext cx="10515600" cy="60984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64646"/>
                </a:solidFill>
                <a:latin typeface="Bamini"/>
              </a:rPr>
              <a:t>gs;spf; fzpjk; fw;gjd; Nehf;fq;fs;</a:t>
            </a:r>
            <a:endParaRPr b="0" lang="en-US" sz="36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309240" y="714240"/>
            <a:ext cx="1164420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mini"/>
              </a:rPr>
              <a:t>fzpjj;ij gakpd;wp&gt; kfpo;r;rpAld; tho;ehs; KOtJk; fw;Fk; ;R+oy;fis</a:t>
            </a:r>
            <a:r>
              <a:rPr b="0" lang="en-US" sz="2500" spc="-1" strike="noStrike">
                <a:solidFill>
                  <a:srgbClr val="000000"/>
                </a:solidFill>
                <a:latin typeface="Bamin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Bamini"/>
              </a:rPr>
              <a:t>mikj;J jUjy;.. 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mini"/>
              </a:rPr>
              <a:t>fzpj nkhopapy; tpthjpj;jy;&gt; ciuahLjy; kw;Wk; ntspg;gLj;Jjy;.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mini"/>
              </a:rPr>
              <a:t>Foe;ijfs;  mwpT G+h;tkhfTk; Mh;tj;Jld; gq;Nfw;Fk; tifapyhd fzpj nray;ghLfis; mikj;J jUjy;.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mini"/>
              </a:rPr>
              <a:t>Foe;ijfs; nra;Ak; gpiofis mth;fNs jpUj;jp nfhs;s tha;g;gspj;jy;.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mini"/>
              </a:rPr>
              <a:t>njhlh;e;J jdpj;J fzf;Ffis mZfp jPh;f;f tha;g;gspj;jy;.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mini"/>
              </a:rPr>
              <a:t>xU Fwpg;gpl;l fzf;fpw;F gy;NtW topfspy; jPh;T fhz Rje;jpukhf re;jpf;f tha;g;gspj;jy;.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mini"/>
              </a:rPr>
              <a:t>md;whl tho;tpy; vOk; fzf;Ffisj; jPh;f;Fk; jpwidg; ngw nra;jy;.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mini"/>
              </a:rPr>
              <a:t>fhuz fhhPaj;NjhL rpe;jpf;Fk; jpwid tsh;j;jy;.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95440" y="285480"/>
            <a:ext cx="10515600" cy="6094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Bamini"/>
              </a:rPr>
              <a:t>fzpjj;jpy; Njh;e;jtuhf jpfo</a:t>
            </a:r>
            <a:endParaRPr b="0" lang="en-US" sz="36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09480" y="1000080"/>
            <a:ext cx="1112544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Bamini"/>
              </a:rPr>
              <a:t>fzpjrhu rq;fpufk</a:t>
            </a:r>
            <a:r>
              <a:rPr b="0" lang="en-US" sz="2600" spc="-1" strike="noStrike">
                <a:solidFill>
                  <a:srgbClr val="000000"/>
                </a:solidFill>
                <a:latin typeface="Bamini"/>
              </a:rPr>
              <a:t>; E}ypy; fzpjj;jpy; Njh;e;jtuhf jpfo 8 Fzhjpraq;fisg; ngw;wpUj;jy; mtrpak; vd;fpwhh; </a:t>
            </a:r>
            <a:r>
              <a:rPr b="0" lang="en-US" sz="2600" spc="-1" strike="noStrike">
                <a:solidFill>
                  <a:srgbClr val="ff0000"/>
                </a:solidFill>
                <a:latin typeface="Bamini"/>
              </a:rPr>
              <a:t>kfhtPuh;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amini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Bamini"/>
              </a:rPr>
              <a:t>1.   tpiue;J nra;jy;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amini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Bamini"/>
              </a:rPr>
              <a:t>2.</a:t>
            </a:r>
            <a:r>
              <a:rPr b="0" lang="en-US" sz="2600" spc="-1" strike="noStrike">
                <a:solidFill>
                  <a:srgbClr val="000000"/>
                </a:solidFill>
                <a:latin typeface="Bamini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Bamini"/>
              </a:rPr>
              <a:t>Mokhf rpe;jpj;jy;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amini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Bamini"/>
              </a:rPr>
              <a:t>3. </a:t>
            </a:r>
            <a:r>
              <a:rPr b="0" lang="en-US" sz="2600" spc="-1" strike="noStrike">
                <a:solidFill>
                  <a:srgbClr val="000000"/>
                </a:solidFill>
                <a:latin typeface="Bamini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Bamini"/>
              </a:rPr>
              <a:t>gFj;jhuha;jy;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amini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Bamini"/>
              </a:rPr>
              <a:t>4.</a:t>
            </a:r>
            <a:r>
              <a:rPr b="0" lang="en-US" sz="2600" spc="-1" strike="noStrike">
                <a:solidFill>
                  <a:srgbClr val="000000"/>
                </a:solidFill>
                <a:latin typeface="Bamini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Bamini"/>
              </a:rPr>
              <a:t>tpiuthf Ghpe;J nfhs;Sjy;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amini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Bamini"/>
              </a:rPr>
              <a:t>5.</a:t>
            </a:r>
            <a:r>
              <a:rPr b="0" lang="en-US" sz="2600" spc="-1" strike="noStrike">
                <a:solidFill>
                  <a:srgbClr val="000000"/>
                </a:solidFill>
                <a:latin typeface="Bamini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Bamini"/>
              </a:rPr>
              <a:t>cz;ikia Muha;e;J KbT nra;jy;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amini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Bamini"/>
              </a:rPr>
              <a:t>6. </a:t>
            </a:r>
            <a:r>
              <a:rPr b="0" lang="en-US" sz="2600" spc="-1" strike="noStrike">
                <a:solidFill>
                  <a:srgbClr val="000000"/>
                </a:solidFill>
                <a:latin typeface="Bamini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Bamini"/>
              </a:rPr>
              <a:t>mjpf epidthw;wiyg; ngw;wpUj;jy;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amini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Bamini"/>
              </a:rPr>
              <a:t>7.</a:t>
            </a:r>
            <a:r>
              <a:rPr b="0" lang="en-US" sz="2600" spc="-1" strike="noStrike">
                <a:solidFill>
                  <a:srgbClr val="000000"/>
                </a:solidFill>
                <a:latin typeface="Bamini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Bamini"/>
              </a:rPr>
              <a:t>jhNd rpe;jpj;jwpjy;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amini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Bamini"/>
              </a:rPr>
              <a:t>8.</a:t>
            </a:r>
            <a:r>
              <a:rPr b="0" lang="en-US" sz="2600" spc="-1" strike="noStrike">
                <a:solidFill>
                  <a:srgbClr val="000000"/>
                </a:solidFill>
                <a:latin typeface="Bamini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Bamini"/>
              </a:rPr>
              <a:t>njhpe;jjpypUe;J njhpahij fz;lwpjy;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380520" y="228240"/>
            <a:ext cx="1165860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6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amini"/>
              </a:rPr>
              <a:t>Rakhf nray;gly;: 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16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amini"/>
              </a:rPr>
              <a:t>Ra fw;wiy ek;Ks; tsh;f;Fk;. 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16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amini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Bamini"/>
              </a:rPr>
              <a:t>gpur;ridfis rhpahf mZfTk;&gt; jPh;f;fTk; gl;rj;jpy; mJ jd;dk;gpf;ifia tsh;f;Fk;. 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16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amini"/>
              </a:rPr>
              <a:t>ntspg;gLj;Jk; jpwd;: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16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Bamini"/>
              </a:rPr>
              <a:t>rhpahd nrhw;fs;&gt; 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16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Bamini"/>
              </a:rPr>
              <a:t>njhpT&gt; 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16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Bamini"/>
              </a:rPr>
              <a:t>gad;gLj;Jk; tof;fk;&gt; 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16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Bamini"/>
              </a:rPr>
              <a:t>ntspg;gLj;Jtjpy; ijhPak;&gt; 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16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Bamini"/>
              </a:rPr>
              <a:t>Jy;ypak;&gt; njspT 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16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amini"/>
              </a:rPr>
              <a:t>         </a:t>
            </a:r>
            <a:r>
              <a:rPr b="0" lang="en-US" sz="2200" spc="-1" strike="noStrike">
                <a:solidFill>
                  <a:srgbClr val="000000"/>
                </a:solidFill>
                <a:latin typeface="Bamini"/>
              </a:rPr>
              <a:t>Mfpa gz;Gfis tsh;fpd;wJ. 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8-23T09:58:09Z</dcterms:created>
  <dc:creator>A.SENTHIL RAJ</dc:creator>
  <dc:description/>
  <dc:language>en-US</dc:language>
  <cp:lastModifiedBy>hp1</cp:lastModifiedBy>
  <dcterms:modified xsi:type="dcterms:W3CDTF">2019-10-01T09:02:53Z</dcterms:modified>
  <cp:revision>31</cp:revision>
  <dc:subject/>
  <dc:title>கணிதப் பாடத்திற்கான கற்றல் விளைவுகள்</dc:title>
</cp:coreProperties>
</file>